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6009-E8D0-4A4F-8613-6B61F3600B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here is to hand out cut up questions in a pile. In pairs, learners turn over questions and ask/answe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F230-1860-4ACC-8EB2-E1941112E6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vary this, you can swop roles halfway through, so the journalist becomes the doctor and the doctor becomes the journa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DC45-4C50-44C6-96B6-429DC8C01E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is to print out the interview and cut it up. Then learners match the answers to the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E837-0DD8-4D06-9302-34887E6D64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ay need a review of the format and language of a formal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1CE9-8834-46A6-8AD1-802D7F26F1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-c   2-f   3-a   4-e   5-b   6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5596-DC72-4C65-8776-7BAC94AF72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6671-4E6E-4F66-9BC7-334366043D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read on-line or you could print out the text on hando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DD27-F29C-45AD-ABE6-ECD40D27E8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listen for errors and elicit corrections after the role-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A25-D95E-4818-BB4E-989C2188FB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063-217D-4CC2-B095-CD069110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5B5-D99C-4772-BC07-A875D82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5F1-4ECA-4980-BAAF-33AB0FDC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B87-9599-41D5-8974-4E16FB35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E4B-FC76-458A-A887-05728123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865-69EC-44DD-9DA2-60883E71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550-3D76-4A94-BB76-780C2217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302-DCC2-43CD-BCB5-E1D0E143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C82-8A29-45B2-A4D5-65469531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C1D-59F0-4594-99A7-7AF395C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B1A-C3EE-49C2-BE6B-1A12EF5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2BB-F75C-4AE8-87B8-EC4217F0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D958-12FF-4532-8544-A2913239C277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90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005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New Internationalist Easier English less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Upper Intermediat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NI logo 2.jpg"/>
          <p:cNvPicPr/>
          <p:nvPr/>
        </p:nvPicPr>
        <p:blipFill>
          <a:blip r:embed="rId2"/>
          <a:stretch/>
        </p:blipFill>
        <p:spPr>
          <a:xfrm>
            <a:off x="5802480" y="476280"/>
            <a:ext cx="2277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333000"/>
            <a:ext cx="8642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) Why would making drugs legal make things better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) Would making drugs legal increase the use of dangerous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) How could we protect children and young peopl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) After drugs were made legal, how would you control them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) We can make drugs legal. But isn’t it better to change the way people think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) Isn’t it true that drug takers can’t think clearly? So isn’t it a good idea to protect drug takers themselve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40428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) If drugs were legal, would there be a private free market for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) Would hard drugs become cheap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) Should some drugs be illegal for health or social reas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) Is it possible there will still be a “black” mark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1) Has anyone tried legalizing drugs and been successful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2) Would legalization happen everywhere quickly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3) Where can I find more inform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If_all_drugs_were_legal,_what_would_happen%3F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write a letter to your country’s leader: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ummarize some of the arguments for legalizing drugs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ay if you think this should happe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and wh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12120" cy="143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illegal-drugs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drugs-legalization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Introduction: speaking and vocabular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Reading: for detail and for gist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Speaking: role-pla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illegal drugs you know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reasons you can think of for making illegal drugs legal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560" y="1341000"/>
            <a:ext cx="403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ecstasy, cocaine, heroin, cannabis, amphetamines, marijuana and op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illic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sycho-a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ecrimini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87880" y="1341360"/>
            <a:ext cx="4705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a) il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b) makes your brain chan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c) these are illegal drug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d) making something no longer a cr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e) making something 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f) not allowing someth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The next slide shows lots of facts about drug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You have 5 minutes study this and try to remember as many facts about drugs as you can. Then tell each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3" descr="drugs info.jpg"/>
          <p:cNvPicPr/>
          <p:nvPr/>
        </p:nvPicPr>
        <p:blipFill>
          <a:blip r:embed="rId1"/>
          <a:stretch/>
        </p:blipFill>
        <p:spPr>
          <a:xfrm>
            <a:off x="4211640" y="196920"/>
            <a:ext cx="3349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Find as many reasons as possible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Compare with other learner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hat questions do you have about drugs being made legal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rite some questions in pair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eg. If all drugs were legal, what would happen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A is a journalist and B is a doct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needs to interview the doctor about what would happen if all drugs were lega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ask and B answer some of the questions on the next 2 slid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Mix</cp:lastModifiedBy>
  <dcterms:modified xsi:type="dcterms:W3CDTF">2012-10-28T16:14:23Z</dcterms:modified>
  <cp:revision>19</cp:revision>
  <dc:subject/>
  <dc:title>DRUGS</dc:title>
</cp:coreProperties>
</file>